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2E9A-015E-4FCE-8E46-9B2CC377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3B91-925C-4097-973C-92B34390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AEB2-5933-4B1D-8E9A-B8831F16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2508-30EF-4D15-93E5-F5D53107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8865-9093-440E-AB87-C12EA76D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0AFF-09A6-4FFE-A2BC-AF069737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31E1-9769-4D9D-8C2C-B1AAA992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D7D6-E57D-472C-AD07-51D28C07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82FF-8725-45F6-8336-4D58357A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B044-023A-464C-B4A4-B3ECCF58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77FE-7331-430D-B41D-12F9B536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C264-EC03-4BA8-9ABA-94F882CA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65BE-A770-470D-A805-82B83E85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F412-DFAE-4445-A589-D7B7361F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9475-ACED-413E-BECE-F585015C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6589-7098-4097-911D-BED2C807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5A05-A390-4078-87C9-0641C2FF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2B74-47CC-4FE3-A102-4596BF79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9532-1B08-4713-8311-124E596A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FCA0-3B90-4FCD-9D3A-675ADB79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C240-9D80-4CB0-87A3-B379C323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5000-39B6-402E-93C8-55F8D178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BDEF-42D0-4FDA-A91B-21A9195D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6EFA-9E8A-44DF-8D9E-F3E477F8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F3FD-1E05-4F52-BFEA-8B3B958D5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AE47-B7FC-43F2-8306-9D1A21798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</a:rPr>
              <a:t>Estado y sociedad en Chile, 1891-193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a) Producción de legalidad (2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os asuntos de que se trataba más largamente en el Parlamento solían ser aquellos que tocaban el campo económico, y que por lo tanto afectaban en uno u otro sentido a diversos sectores de la economía nacional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os problemas doctrinarios de índole religiosa o educacional tenían a veces lugar, virulentamente, pero más generalmente eran esquivados como inoportunos. En cambio, la legislación aduanera, la conversión metálica y el papel moneda, los debates sobre el salitre, sobre las obras públicas, etc., daban más lugar a intervenciones personales, ya que en ellos no regía la exigencia de afiliación a una posición de partido” (Góngora, 198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a) Producción de legalidad (3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8001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producción de legalidad constituía un mecanismo a través del cual se atendían los diversos intereses de los grupos oligárquicos: bancarios, terratenientes, industri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sta permitía definir los marcos dentro de los cuales se desarrollarían las actividades económicas con el fin de articularlas de mejor manera, cuando no establecían apoyos directos a algunas de ell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b) La no producción de legalidad (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Si producir una ley podía tener una serie de ventajas para alguno de los grupos oligárquicos, no producirlas las tenía, para otr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Se formaban mayorías circunstanciales para aprobar como para obstruir sistemáticamente algunos proyectos de le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Ejemplos: impuestos directos a la población, rechazo a aumentar las incompatibilidad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b) La no producción de legalidad (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producción como la no producción de legalidad se transformaron en importantes mecanismos, a través de los cuales los distintos grupos oligárquicos defendieron sus interes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ubo además toda otra producción de legalidad referida a la administración pública, ejercito, policía, etc.;pero que no revestía igual importancia para sus actividades económicas  y que, por lo mismo, no desataba mucha controvers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b) La no producción de legalidad (3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35002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Proceso de producción y no producción: dos óptic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989000"/>
            <a:ext cx="718920" cy="4032360"/>
          </a:xfrm>
          <a:custGeom>
            <a:avLst/>
            <a:gdLst>
              <a:gd name="textAreaLeft" fmla="*/ 459360 w 718920"/>
              <a:gd name="textAreaRight" fmla="*/ 719280 w 718920"/>
              <a:gd name="textAreaTop" fmla="*/ 105120 h 4032360"/>
              <a:gd name="textAreaBottom" fmla="*/ 3927240 h 40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8"/>
                </a:lnTo>
                <a:cubicBezTo>
                  <a:pt x="10800" y="9908"/>
                  <a:pt x="5400" y="10808"/>
                  <a:pt x="0" y="10808"/>
                </a:cubicBezTo>
                <a:cubicBezTo>
                  <a:pt x="5400" y="10808"/>
                  <a:pt x="10800" y="11708"/>
                  <a:pt x="10800" y="1260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2349360"/>
            <a:ext cx="44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Referida a la generación de marcos legales que institucionalizarían, ya fuera para mantener o potenciar, situaciones de hecho favorables para algunos de los miembros de ell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4005360"/>
            <a:ext cx="439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omo no generación de marcos legales, a pesar de que en ciertos círculos, aparecían ya como necesarios , que redujeran las oportunidades que el monopolio del Estado ofrecí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II. La Exclusión Polít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7750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Se expreso en el monopolio que tuvo la oligarquía del aparato estat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62120" indent="-7621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se extiende por todo el territori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62120" indent="-7621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“…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naturaleza de la dominación hacia el novecientos permite que la oligarquía no solo controle el Estado, sino que sea el Estado mismo” (Barros y Vergara, 197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Mecanismos de exclusión políti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99680" y="19285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ráctica política: “el deporte de la oligarquía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Acceso a la política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Voto censitar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Gratuidad trabajo parlamentario (existía la obligación de poseer renta para ser candidato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Síntesis exclusión polít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n un sistema de voto restringido, donde ser parlamentario implicaba disponer de los medios personales suficientes para subsistir y en donde el acceso a una candidatura y los votantes pasaba por la voluntad de uno o varios latifundistas, solo era posible llegar a alguna de las cámaras, y por su puesto de la administración pública  en sus altas jerarquías, si se era miembro de alguno de los grupos oligárquicos.  No cualquiera podía  tomar parte en su “depor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III. Exclusión administrativ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928880"/>
            <a:ext cx="80010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expresa en dos prácticas recurrent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i) la provisión de cargos y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ii) el establecimiento de lazos comerciales con el exteri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Dan cuenta de la forma como las oligarquías concebían su vinculo con el Estado y como esa forma de concebirlo también actuara como exclusió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Manifestaciones de la ex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Fronteras difusas entre lo público y privado. (contratos con el Estado, provisión de cargo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lientelism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Negocios con el exteri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IV. La exclusión leg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La producción de legalidad era el mecanismo que cerraba el circulo de la exclus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e las situaciones de privilegio económico y social se saltaba a la práctica política, de ahí a la administrativa y de ella a la producción de la le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Esta a su vez sancionaba las prácticas anteriores dándoles una base institucional y generando las condiciones de su propia reproduc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xclusión de lega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3429000"/>
            <a:ext cx="2449440" cy="1079640"/>
          </a:xfrm>
          <a:prstGeom prst="rect">
            <a:avLst/>
          </a:prstGeom>
          <a:solidFill>
            <a:srgbClr val="003366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Exclusión d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eg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565360"/>
            <a:ext cx="792000" cy="2664000"/>
          </a:xfrm>
          <a:custGeom>
            <a:avLst/>
            <a:gdLst>
              <a:gd name="textAreaLeft" fmla="*/ 506160 w 792000"/>
              <a:gd name="textAreaRight" fmla="*/ 792360 w 792000"/>
              <a:gd name="textAreaTop" fmla="*/ 69480 h 2664000"/>
              <a:gd name="textAreaBottom" fmla="*/ 259452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2997360"/>
            <a:ext cx="3527640" cy="19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Producción de leg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no producción de leg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) Producción de legalidad (1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mecanismos a través del cual se producía una ley fue donde más se encarnaron los intereses de los distintos grupos oligárquic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producción de legalidad tenía una importante relación con la forma en que las oligarquías concebían el Est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tro de los campos predilectos de la producción de legalidad estuvo relacionado con el problema monet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6-01T23:51:58Z</dcterms:modified>
  <cp:revision>33</cp:revision>
  <dc:subject/>
  <dc:title>La compleja herencia del siglo XIX</dc:title>
</cp:coreProperties>
</file>